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12E-3CB9-4EE2-908A-0DFE03BA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920-8B63-4050-8816-D3B999A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775-6ECD-4747-AD19-88149950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752-39EF-47F7-BE50-EB4B8777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369-36C9-4BDD-BF04-13AA050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2DF-9265-4883-8ED6-8939C57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AD0-D8D8-4FF9-AF2C-23BAF9F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3FF-ADD1-4E57-BC2E-F6455E8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0CF-EB33-4689-983B-C8AA98E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C96-C868-488B-9E92-7241362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98D-8CD7-4AF4-BABE-18E7409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C9B-D83B-47FC-8434-4DE5040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D15-5D24-44D0-9A99-24AB2B019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bikeraceinfo.com/annual/images07/lombardy.jpg&amp;imgrefurl=http://www.bikeraceinfo.com/annual/race2007.html&amp;usg=__yZSHpxe7i83feEeiocZSHelEuvs=&amp;h=530&amp;w=800&amp;sz=70&amp;hl=en&amp;start=20&amp;tbnid=kPo54zRZmxAHUM:&amp;tbnh=95&amp;tbnw=143&amp;prev=/images%3Fq%3DItaly%2Bbike%2Bracing%26hl%3Den%26safe%3Dactive%26rlz%3D1T4IBMA_enUS310US310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greetings.ca/Mona%2520Lisa.jpg&amp;imgrefurl=http://www.englishbaby.com/blog/narges&amp;usg=__Vjc2Nw9W-6yssGFsNg277cJmnM8=&amp;h=1143&amp;w=800&amp;sz=217&amp;hl=en&amp;start=1&amp;tbnid=V3bPjgNSYjL4mM:&amp;tbnh=150&amp;tbnw=105&amp;prev=/images%3Fq%3DMona%2BLisa%26hl%3Den%26safe%3Dactive%26rlz%3D1T4IBMA_enUS310US310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www.science-facts.com/leonardo-davinci.jpg&amp;imgrefurl=http://www.science-facts.com/2008/06/14/the-universal-man-da-vinci/&amp;usg=__JHmFHHhG9bDjQR5moiU3UFs3evE=&amp;h=437&amp;w=300&amp;sz=152&amp;hl=en&amp;start=15&amp;tbnid=Ri_kQWve35EXIM:&amp;tbnh=126&amp;tbnw=86&amp;prev=/images%3Fq%3DLeonardo%2Bda%2BVinci%26hl%3Den%26safe%3Dactive%26rlz%3D1T4IBMA_enUS310US310%26sa%3DX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y: A.C. and Nand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oper Blac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Grade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Randolp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152280"/>
            <a:ext cx="632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80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Goudy Stout"/>
              </a:rPr>
              <a:t>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8000"/>
                  </a:gs>
                  <a:gs pos="100000">
                    <a:srgbClr val="ff3300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971800" cy="28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Culture in 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re are many popular and different foods in Italy. They mainly eat pizza and pastas like spaghetti, lasagna, and macar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The most popular sport in Italy is soccer! Other major sports are bicycle and motor races, fishing, horse riding, hunting, tennis, and ski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In Italy there are many unique art pieces. Leonardo da Vinci, who painted the world famous Mona Lisa, came from Italy.</a:t>
            </a:r>
            <a:r>
              <a:rPr b="0" lang="en-US" sz="1400" spc="-1" strike="noStrike">
                <a:solidFill>
                  <a:srgbClr val="000000"/>
                </a:solidFill>
                <a:latin typeface="Goudy Stout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28195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3400" y="2971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30481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4971960"/>
            <a:ext cx="2209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Language-Ital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urrency- Italy’s currency  is Euro as of 2002. Before that it was l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apital-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eligion-Mostly Roman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opulation-Over 57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Government-Democra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mate-Mediterran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68200">
            <a:off x="533160" y="380520"/>
            <a:ext cx="121896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4248000"/>
            <a:ext cx="2666880" cy="11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5318280"/>
            <a:ext cx="3048120" cy="153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409200">
            <a:off x="7467120" y="228600"/>
            <a:ext cx="1143000" cy="1066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Physical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lps-mountain range at the north part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pennines-mountain range that runs down the center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o River-longest river in Italy(405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Lake Garda-largest lake in Italy(143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Mt. Blanc-tallest mountain in Italy(15,521 fe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52280"/>
            <a:ext cx="137160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57200"/>
            <a:ext cx="1905120" cy="762120"/>
          </a:xfrm>
          <a:prstGeom prst="flowChartPunchedTape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ome is the capital of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ome is filled with famous landmarks. For example, the colisse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Forum was very famous. It was a market and a meeting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trevi fountain is also very famous in R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ilan is the city of extreme lifestyle and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ilan is a very relaxing yet can be exciting and w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re is an Italian Football (soccer) club in Milan called A.C. Milan. A.C. stands for Associazione Calc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654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42120" y="487692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Ve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Venice is mostly underwater. It is home of the Gondo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eople in Venice either travel by Gondolas or by fo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19051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ny people have heard this name, but not as a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s is home to the Leaning Tower of Pi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o knew </a:t>
            </a:r>
            <a:r>
              <a:rPr b="0" i="1" lang="en-US" sz="3200" spc="-1" strike="noStrike">
                <a:solidFill>
                  <a:srgbClr val="000000"/>
                </a:solidFill>
                <a:latin typeface="Cooper Black"/>
              </a:rPr>
              <a:t>Pisa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 was a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7760" y="0"/>
            <a:ext cx="2971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rre.duomo.pisa.it/index_e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cmilan.com/InfoPage.aspx?id=37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orre.duomo.pisa.it/index_e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iewoncities.com/rome/trev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iewoncities.com/rome/colosse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ide To Ital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Williams, p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ristin Thoennes, pgs 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ide 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an James, pgs 17,19,and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1866960" y="255276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Goudy Stout"/>
              </a:rPr>
              <a:t>Biography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4838400" y="232416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Goudy Stout"/>
              </a:rPr>
              <a:t>Sources</a:t>
            </a:r>
            <a:endParaRPr b="0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p:transition>
    <p:wheel spokes="1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4:36:13Z</dcterms:created>
  <dc:creator>annbrown</dc:creator>
  <dc:description/>
  <dc:language>en-US</dc:language>
  <cp:lastModifiedBy>Amit Chakrabarty</cp:lastModifiedBy>
  <dcterms:modified xsi:type="dcterms:W3CDTF">2009-02-13T02:55:07Z</dcterms:modified>
  <cp:revision>10</cp:revision>
  <dc:subject/>
  <dc:title>Italy</dc:title>
</cp:coreProperties>
</file>